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9BE-7152-4141-82F9-BE744766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2B2-A603-41F6-BFC3-220AE335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439-5EC7-4483-9A6E-88D26500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7AA-4641-4C92-B862-68938FFC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95A-2EBE-49B3-BCE5-1E0356D7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9A3-623A-4318-BA54-8434429B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A60-1A32-4BAE-954F-95AD3422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EB4-B6C6-4DAE-A3F0-60A2E16B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7F7-FBF1-4806-9E40-84C25778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F80-E737-4DB7-B2EE-DFCD6E93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99E-9F15-4397-8F09-89D4F64D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C2D-9A9F-4F4D-9852-6DAB1FDA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F48C-9052-46A4-8873-4DFBDDB21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sbach.net/bass/elements/bach-hausmann.jpg&amp;imgrefurl=http://www.jsbach.net/bass/composer.html&amp;h=591&amp;w=480&amp;sz=59&amp;hl=en&amp;start=5&amp;um=1&amp;tbnid=smRxuZkdTDwV_M:&amp;tbnh=135&amp;tbnw=110&amp;prev=/images%3Fq%3DBach%26ndsp%3D18%26svnum%3D10%26um%3D1%26hl%3Den%26sa%3DN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hoasm.org/1748HandelByHudson-0475.jpg&amp;imgrefurl=http://www.hoasm.org/PeriodX.html&amp;h=475&amp;w=402&amp;sz=73&amp;hl=en&amp;start=6&amp;um=1&amp;tbnid=jBHS5emQD7C71M:&amp;tbnh=129&amp;tbnw=109&amp;prev=/images%3Fq%3DHandel%26svnum%3D10%26um%3D1%26hl%3De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ndb.com/people/307/000093028/vivaldi-sm.jpg&amp;imgrefurl=http://www.nndb.com/people/307/000093028/&amp;h=284&amp;w=250&amp;sz=36&amp;hl=en&amp;start=38&amp;um=1&amp;tbnid=qqIYr-hVYbY47M:&amp;tbnh=114&amp;tbnw=100&amp;prev=/images%3Fq%3Dvivaldi%26start%3D36%26ndsp%3D18%26svnum%3D10%26um%3D1%26hl%3Den%26sa%3DN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715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dwardian Script ITC"/>
              </a:rPr>
              <a:t>Created by Renee Sak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baroque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43545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Baroque Mus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1600-1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Four Main Composers: Bach, Handel, Vivaldi and Monteve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00ff"/>
                </a:solidFill>
                <a:latin typeface="Comic Sans MS"/>
              </a:rPr>
              <a:t>Main Instruments: wheel fiddle, harpsichord, lute, violin, baroque gui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aschenis_-_Musical_Instruments" descr=""/>
          <p:cNvPicPr/>
          <p:nvPr/>
        </p:nvPicPr>
        <p:blipFill>
          <a:blip r:embed="rId1"/>
          <a:stretch/>
        </p:blipFill>
        <p:spPr>
          <a:xfrm>
            <a:off x="6095880" y="4788000"/>
            <a:ext cx="27432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What Did They We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mg0026copy" descr=""/>
          <p:cNvPicPr/>
          <p:nvPr/>
        </p:nvPicPr>
        <p:blipFill>
          <a:blip r:embed="rId1"/>
          <a:stretch/>
        </p:blipFill>
        <p:spPr>
          <a:xfrm>
            <a:off x="304920" y="3733920"/>
            <a:ext cx="2101680" cy="2759040"/>
          </a:xfrm>
          <a:prstGeom prst="rect">
            <a:avLst/>
          </a:prstGeom>
          <a:ln w="0">
            <a:noFill/>
          </a:ln>
        </p:spPr>
      </p:pic>
      <p:pic>
        <p:nvPicPr>
          <p:cNvPr id="50" name="pilman" descr=""/>
          <p:cNvPicPr/>
          <p:nvPr/>
        </p:nvPicPr>
        <p:blipFill>
          <a:blip r:embed="rId2"/>
          <a:stretch/>
        </p:blipFill>
        <p:spPr>
          <a:xfrm>
            <a:off x="2895480" y="2057400"/>
            <a:ext cx="2406600" cy="3241800"/>
          </a:xfrm>
          <a:prstGeom prst="rect">
            <a:avLst/>
          </a:prstGeom>
          <a:ln w="0">
            <a:noFill/>
          </a:ln>
        </p:spPr>
      </p:pic>
      <p:pic>
        <p:nvPicPr>
          <p:cNvPr id="51" name="histdrs" descr=""/>
          <p:cNvPicPr/>
          <p:nvPr/>
        </p:nvPicPr>
        <p:blipFill>
          <a:blip r:embed="rId3"/>
          <a:stretch/>
        </p:blipFill>
        <p:spPr>
          <a:xfrm>
            <a:off x="5867280" y="3429000"/>
            <a:ext cx="2384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What Did They Pa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300px-Vermeer_-_The_Milkmaid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45592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228-012-lrg" descr=""/>
          <p:cNvPicPr/>
          <p:nvPr/>
        </p:nvPicPr>
        <p:blipFill>
          <a:blip r:embed="rId2"/>
          <a:stretch/>
        </p:blipFill>
        <p:spPr>
          <a:xfrm>
            <a:off x="2971800" y="2209680"/>
            <a:ext cx="3254400" cy="4154760"/>
          </a:xfrm>
          <a:prstGeom prst="rect">
            <a:avLst/>
          </a:prstGeom>
          <a:ln w="0">
            <a:noFill/>
          </a:ln>
        </p:spPr>
      </p:pic>
      <p:pic>
        <p:nvPicPr>
          <p:cNvPr id="55" name="old-masters-paintings" descr=""/>
          <p:cNvPicPr/>
          <p:nvPr/>
        </p:nvPicPr>
        <p:blipFill>
          <a:blip r:embed="rId3"/>
          <a:stretch/>
        </p:blipFill>
        <p:spPr>
          <a:xfrm>
            <a:off x="6477120" y="1828800"/>
            <a:ext cx="2500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What Did They Bui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hilltopb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962520" cy="2670120"/>
          </a:xfrm>
          <a:prstGeom prst="rect">
            <a:avLst/>
          </a:prstGeom>
          <a:ln w="0">
            <a:noFill/>
          </a:ln>
        </p:spPr>
      </p:pic>
      <p:pic>
        <p:nvPicPr>
          <p:cNvPr id="58" name="1893Avuevig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571920" cy="2681280"/>
          </a:xfrm>
          <a:prstGeom prst="rect">
            <a:avLst/>
          </a:prstGeom>
          <a:ln w="0">
            <a:noFill/>
          </a:ln>
        </p:spPr>
      </p:pic>
      <p:pic>
        <p:nvPicPr>
          <p:cNvPr id="59" name="EM25" descr=""/>
          <p:cNvPicPr/>
          <p:nvPr/>
        </p:nvPicPr>
        <p:blipFill>
          <a:blip r:embed="rId3"/>
          <a:stretch/>
        </p:blipFill>
        <p:spPr>
          <a:xfrm>
            <a:off x="2590920" y="4191120"/>
            <a:ext cx="38098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What Did They Listen 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B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German Compo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Musical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Played violin, harpsichord and or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1200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HAN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German Compo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Law School to Music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Brought to the English Royal Co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4876920"/>
            <a:ext cx="1257120" cy="1542960"/>
          </a:xfrm>
          <a:prstGeom prst="rect">
            <a:avLst/>
          </a:prstGeom>
          <a:ln w="0">
            <a:noFill/>
          </a:ln>
        </p:spPr>
      </p:pic>
      <p:pic>
        <p:nvPicPr>
          <p:cNvPr id="64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5181480"/>
            <a:ext cx="12463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What Did They Listen T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VIVAL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Italian Compo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Taught Violin from his F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Became a Priest then a Music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Over 700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Comic Sans MS"/>
              </a:rPr>
              <a:t>MONTEVER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Italian Compo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Worked as the choirmaster in a cathed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66ff"/>
                </a:solidFill>
                <a:latin typeface="Comic Sans MS"/>
              </a:rPr>
              <a:t>Older” 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410080"/>
            <a:ext cx="1143000" cy="1303560"/>
          </a:xfrm>
          <a:prstGeom prst="rect">
            <a:avLst/>
          </a:prstGeom>
          <a:ln w="0">
            <a:noFill/>
          </a:ln>
        </p:spPr>
      </p:pic>
      <p:pic>
        <p:nvPicPr>
          <p:cNvPr id="69" name="images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3496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21:24:09Z</dcterms:created>
  <dc:creator> Renee Sakos</dc:creator>
  <dc:description/>
  <dc:language>en-US</dc:language>
  <cp:lastModifiedBy> Renee Sakos</cp:lastModifiedBy>
  <dcterms:modified xsi:type="dcterms:W3CDTF">2007-07-12T22:54:50Z</dcterms:modified>
  <cp:revision>17</cp:revision>
  <dc:subject/>
  <dc:title>1</dc:title>
</cp:coreProperties>
</file>